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55D-AFDB-4998-BAC6-441DF569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0F8-8383-426C-BA3E-E2495F00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539-C465-4E71-8D53-A64EA25F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615-541F-4006-A037-8BCA0C45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18F0-C8CB-4D0B-89BA-436E2E19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EB6C-5288-46C7-94A7-7328BC98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2BC3-FF9E-4F78-9841-8D868A35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0326-6D04-4724-9710-753E9A48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93D7-8CCD-4CAD-B0C8-CC3CA36C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EA51-3591-44E4-B38B-BDBB442A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6EF6-9C50-4CB9-B470-8AE35B96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DC2-5F11-43EF-AC4E-5CE9152C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7312-9DFE-423C-80F9-D943C083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FFC8-A661-486F-A654-19BC3BD4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8699-50F1-4D44-846C-F8715570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BCA3-E29C-49F2-B0BA-93F9A41C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1FA2-34A9-4A86-AE1C-75A5CC54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B70-5B11-40DC-A468-F75CD489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CEF-6591-4C98-97FB-E10E2B93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08A-ECFF-4A68-BEA0-2795E380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C0D-EEEC-4E01-B8E0-7B375132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817-B04E-45E4-9613-134DC61A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F8C-4E98-4C89-9378-CB246D1B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0BB-12C2-4E85-9141-5FBC5860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0CB5-4145-4341-AF65-F8A4F5B70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EFF2-62F3-4BF2-BF3B-64FEADD30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Pass the Basket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words your students need to work on in the basket.  Play musical vocabulary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Pass the Bask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 basket of vocabulary words to a 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 while students pass the basket.  When the music stops, the teacher chooses a word from the basket to read to the 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 then gives the correct definition for the w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rrect definition is read the student keeps the word until the end of the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efinition and let students give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tudents use the word in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tudents spell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4:38:00Z</dcterms:modified>
  <cp:revision>5</cp:revision>
  <dc:subject/>
  <dc:title>Light Up the World A vocabulary game from Mentoring Minds Grades 1-4</dc:title>
</cp:coreProperties>
</file>